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4E4-52BC-4B4A-B04F-3B103317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E28-97F3-430A-A760-AEAB9AC5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199-590B-476C-BE64-6E9C04B0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6D2-1BB9-4E88-BA51-80C06002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EBA-4B48-4A2A-9D95-856BF220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324-E56D-4258-B0D1-55825675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97B-9F9E-4FF3-A108-A8AE5137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605-48C7-465B-8F9E-845D5B4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C35-1862-4D70-B863-DE90C447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D33-F361-4FD4-869F-B80ED6DE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BB1-6DAF-41AE-A293-1CA848F7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C16-4719-46AE-BA56-7A6F1B1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33AC-4DEA-4E27-A9E6-1460ACADA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2209680"/>
            <a:ext cx="7162560" cy="14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ol Mark Identif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57480" cy="2039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1816200" cy="128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5880" y="685800"/>
            <a:ext cx="1663920" cy="97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1562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 in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Known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match each know sample with the tool that made the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2 suspec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match the suspect blocks with the tools that made the m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your data on your Lab data sheet page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clay and make a mold of the crime scene ev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cast of each of the suspect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match the crime scene evidence to the appropriate suspect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your findings on data table and write an explanation of why you believe the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5:06:23Z</dcterms:created>
  <dc:creator>Greg Neff</dc:creator>
  <dc:description/>
  <dc:language>en-US</dc:language>
  <cp:lastModifiedBy>Greg Neff</cp:lastModifiedBy>
  <dcterms:modified xsi:type="dcterms:W3CDTF">2008-03-04T15:24:03Z</dcterms:modified>
  <cp:revision>3</cp:revision>
  <dc:subject/>
  <dc:title>PowerPoint Presentation</dc:title>
</cp:coreProperties>
</file>